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3443-5F04-4FD7-AC61-2FEDDBD19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D5F9-0E9C-40B5-9B8B-E80AE82306E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05D3-11D4-4486-AB92-E5FAEAC637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D3B0-AE8B-4558-9F58-8C1781E62E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9FA4-9080-4BF6-8BDA-E9CC946106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C797-8449-467C-B119-9B5A9DE1D8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514D-4986-4D80-B391-7D4557D7DA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4745-024C-45AD-954A-154FF806E4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1EDA-01B8-4AB3-9DAD-E59844D154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178D-BA1E-4E08-A227-5292B743D4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123B-5F67-4861-9D8E-82ADC14095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0B9B0-7F66-4139-8B6C-235FA81C9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5837-AFE6-47D9-8A7B-A9308001CD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D7B6F-391D-48B0-A903-6869051369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7D0AF-BD65-4726-8F09-9BB39535AE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AC57C-0BEB-4547-BC77-53C603B1674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BF6B0-C8F7-48AD-BE0B-A86807866D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11A3A-801E-4D81-9C36-0C9109DA4A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8E690-C53D-43A2-9D62-B66A97AE16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CDF2D-3FA5-445C-986E-09AD2F33E0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AC552-BECC-4133-9045-515DD0A636A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C817D-3110-4094-800E-67D019D885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2E76A-4960-4AE8-A34B-ECFB4DBDA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3020-5E49-423C-BCB8-6D1C32DADB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F58DC-82D6-494F-AEA9-D0714759C9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0557A-2DC6-4454-814D-758CDBDBBC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F2C67-88C5-4037-9AD1-3732BCCE34D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3D7D8-2DF1-4975-BC52-AC0EDA2660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1DB02-00E2-446A-801C-4D4D880B19E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EC3BC-ACBA-4732-AB0D-A4B316EFC4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8D556-B5DE-4564-A268-6F67499B34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73F0B-3157-449A-8502-5A87B5B000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E2432-74D5-47E9-8079-065ACFDD04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E468B-B180-45C1-9BF2-0073224F2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975A-CE6B-48B5-87C5-D784964593B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69C56-4232-4794-BA6B-48B283DA11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ADBBD-AC4E-4FA0-BFD2-08658C38DB8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C98D8-8603-4EBF-97E1-F3CF3B3447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5528-DE13-4673-B9AA-E1533A07C8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7E9A-C428-432C-A059-1BC3EDE94F2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C715-2990-448D-987C-FEB13F7567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4EFD-DB0D-4F7E-B72C-75A08A306B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4945-B9FC-4276-A730-20828D9E1E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F95F-3C43-4A76-B2B3-4EF118EAAD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12F7-DEE1-403B-80FB-702CEFAC3D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85D7-E4CE-433E-8F22-4891CE1C23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4985-54C4-4B7D-AF48-B902DF34AF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E27A-ECE4-4CDF-84B0-EEFAC8257F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5D9E-B8EF-4144-8336-22CB5BB34E3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C250-A611-4054-986E-081F499A2C2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A861-8FB5-4E49-968C-5F800ED8C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E8FA-FB18-4B2C-9B17-B234976F4C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BB75-7FA8-4859-AF34-2A089BD27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0527-FB82-4579-8F71-1C74EE13C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9B4A-AD32-4864-ACD6-EA326961D2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1EC2-6CD2-48FD-A56E-64C02BB96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B0FF-5369-416B-8DEE-8D0C65598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9E27-22AE-476B-A296-A32B34D63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6286-88C4-4A7F-8253-0631FCDB9C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F63E-5319-41CE-81DC-AB95C4520F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C504-820A-4ABD-9AF0-EE15A0C7A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41F1-8451-4B23-82BC-12E963B3B0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E21-DBC8-4570-B582-B753A22F9C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355-3B8E-427E-8BC2-2875D3555B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079-DEB3-4821-A316-BD7CD842C7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53A-B45B-4154-B83D-B155C7B0B9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1B3-9D7B-4877-94AE-2EDBD8B98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6A99-C657-4C7A-9A7C-296EB7EEB0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25C-A9AB-44B1-8B94-69D51CC949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943-F2B2-42D9-B0AD-9F1371A4E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A20-5606-4FA0-90BC-24688C62BE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6BC-DA9A-491A-9A4E-23837E80AE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11C-7103-4F05-AAF3-A371F1F4D8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49C-7C2E-4F15-AE9D-830C56C379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E45-6233-44A3-BC2E-4ADC97A45F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9150C-4ECA-4D21-B066-7BF4B7C91D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17499-F3AA-4780-9690-277712B41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AED93-505F-4494-A6FE-152898598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FD72-8393-4D43-B840-2C3343ADFB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77A65-210B-4242-834F-2D1712BAAB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DD4C1-8339-43BA-B191-2E056D7F5D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28C89-4E3B-45A6-AFD9-B214384CBE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6CFA5-6E11-4871-BFA2-626B5A2F71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27453-DCD3-4B99-AF3C-1D952E105B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0631-C8C9-46BB-A6C3-1F26EA20C2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8C8FE-6D3E-40AD-B16B-D3421CC87D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F3DB-5F23-4CBF-84DE-467495AFE8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EED54-CD83-466E-A210-F914FF17CD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E93B3-BCEF-4BBB-A922-BAA1504F9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67FF-AE12-4F84-AA63-6AAD066B13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18C7-0A09-4E96-9F27-1BC2AE2E2C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3D387-456E-4A7A-BF9C-BFD7414B3A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1481-ADDE-41F2-A737-41089E847E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032D5-44F4-46F4-96E1-2196D61503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0FCC-4DA4-4B3A-A49C-FCEC0AB5D8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606A-D224-4AC1-93E0-54C3BA0436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F1C25-6EEA-4CF0-B646-18035FA771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0444C-A528-4664-BC48-853460C39D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DF0E-5A91-4356-9A2D-8A1FF65939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6D8D-B1E6-4848-87F3-39D007933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3ADE-546B-41DE-A574-4F948735C9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DC4C9-89CE-4844-8BBC-8945CC849F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351-C8AE-478A-8AFE-92B14A623F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4AF-E80B-4DF1-A768-E256861638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2C4F-F8CA-4051-8E76-4590FA720D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BA3-D33F-46A0-BAFD-7977EE55B3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343-B6DA-4937-A685-3FACE71F1A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A390-A536-410D-A347-D3A396DD50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3928-E4FC-4CB5-83FE-DCFFE575A7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294-DB9D-4D7C-83A1-BD6A2055AC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8E8-2593-4F36-849D-3B7369A7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61C7-9461-4BBF-AAA8-4265B1F70DE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7E8E-E72C-4789-8160-7FCEEA5622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D04E-6399-4164-A80D-84AD43BA2D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1D2-815B-467A-970A-19AF78DC04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D1585-FD3B-40DA-A622-B772A2204D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D2DC2-A2DE-4298-BA24-A186EA0572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D859A-2EF4-46E3-9148-5720E3FE36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EB35C-48CF-4CBB-9A18-98CD179341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524AB-D487-40AD-9ED3-1AA9EB777A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3C93E-7DAF-4FDF-923B-F6A504FAF2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87D72-DED8-461E-92A9-DEB4A6F7D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EB42-EDF4-41E6-AD9E-57D5723A0E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19DE3-BA34-4369-A340-29C4627F0A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8E4C4-C329-42CC-B93E-B11BBB8F9E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BD58E-424F-4376-9095-C1F177BCDB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A65E1-E13F-4808-8B47-F23284A5C3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6A3DB-1F84-425A-B122-E9AA47AFE1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B0753-8032-413E-95E0-DF63841AE3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9A5B2-C801-490A-AD05-3C5355F302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B6468-40F8-4FEE-A930-D6783FF327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BA207-6005-4F4C-BB32-2B206DFD77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65489-A3B8-4AA2-A056-26A77339A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B958-6C1A-48F7-A108-FCA4230A35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A03EA-C1D6-4B4C-98A9-A3A64F9CD7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4A5E7-2F1A-466E-8E63-CBD306ACE7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12221-66FC-4473-BCBE-79E9F9E218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4E975-C1C5-4B03-95C6-916C7F30B2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BCFF7-92F4-451E-B60C-20A20B3C2A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7C077-D14D-4DE7-96D7-096D8E76E4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7CFE8-4F17-4CE1-9113-89B978439B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1291-67DA-44DA-AB98-64857270B0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9953-BA53-4FD9-AE55-A001A5C8B39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1165-60E5-46C3-B7EC-9A673E232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9280" y="9258120"/>
            <a:ext cx="3888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D6B3B-E68B-4520-9C74-686130A858AE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80AFC-0D3D-4A45-A708-94ACFCBB17B9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538A6-8118-405E-9D89-8672036E7019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160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6BCC7-77EB-45B6-8AAA-E872E4ACB49B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160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BDAA6-971F-44D3-9ADE-877E22132B02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6960" y="35686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77926-9810-476F-9C95-B1D6A4462BEF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6960" y="7180200"/>
            <a:ext cx="114267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3FA9F-A869-45AA-8471-1956CDC5C5A7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0" y="0"/>
            <a:ext cx="13001760" cy="9750600"/>
            <a:chOff x="0" y="0"/>
            <a:chExt cx="13001760" cy="9750600"/>
          </a:xfrm>
        </p:grpSpPr>
        <p:pic>
          <p:nvPicPr>
            <p:cNvPr id="15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1760" cy="97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1400" cy="60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7200"/>
            <a:ext cx="6245280" cy="357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5280" cy="127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7FB49-A36E-4C01-AD04-4B3D9C9DAE53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A857C-2E46-4431-8F1F-39B27F1511B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160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4621C-5685-4052-99A3-130D7ECD8654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7EED5-70DB-4AB9-9D50-E215A1345C22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5640"/>
            <a:ext cx="367992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5C4F0-24D6-4A56-82E3-4843E76E24A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090C-87EF-4745-ADBA-8680733A316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3920" y="2611080"/>
            <a:ext cx="11430000" cy="394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Elements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of the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Periodic Table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907BD-1B28-4B44-A494-FB877A98EDEC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76243-6A5C-4CFE-91CB-FDAB7066F7FE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6500880" y="350352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3"/>
          <a:stretch/>
        </p:blipFill>
        <p:spPr>
          <a:xfrm>
            <a:off x="1346040" y="6672240"/>
            <a:ext cx="5535720" cy="1104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4"/>
          <a:stretch/>
        </p:blipFill>
        <p:spPr>
          <a:xfrm>
            <a:off x="419040" y="3782880"/>
            <a:ext cx="96516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70778-D63D-4573-AFDB-0AF5EC17654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9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5051C-AEFB-4A2B-A9FD-ACA671655C6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1" lang="en-US" sz="36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7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are diatomic molecules</a:t>
            </a: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1BBFB-DCBE-4E99-AA35-A985BB382F7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3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5C64-56CB-41C0-B13D-CB2EB1F0702D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6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44590-5FCE-41F7-B7C1-54A035FFFE31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E6966-8255-4B4E-8524-DBE36266B821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F6823-8311-4883-956E-699A3964EC7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7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of the known elements ar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9841-AFD0-4011-9C23-EDC7A3F5C03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027E8-CA11-44D8-86DB-AF965819778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26AE1-D91E-489A-B29E-969234391FD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990B3-A67E-4061-B0D3-C37E666EE6B2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90640" y="322380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"/>
              </a:rPr>
              <a:t>An element is any substance that can not be broken down into simpler substances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F75DB-8B65-4525-BEDC-2BF8BA9D689F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A068D-F4AF-4E74-B711-737B85DAF58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DFCB-1041-46F0-9870-47896424603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244A-FE0C-45E5-9844-EAF8B82E4ECF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grpSp>
        <p:nvGrpSpPr>
          <p:cNvPr id="493" name="Group 9"/>
          <p:cNvGrpSpPr/>
          <p:nvPr/>
        </p:nvGrpSpPr>
        <p:grpSpPr>
          <a:xfrm>
            <a:off x="4356000" y="6870600"/>
            <a:ext cx="428760" cy="1711440"/>
            <a:chOff x="4356000" y="6870600"/>
            <a:chExt cx="428760" cy="1711440"/>
          </a:xfrm>
        </p:grpSpPr>
        <p:sp>
          <p:nvSpPr>
            <p:cNvPr id="494" name="AutoShape 10"/>
            <p:cNvSpPr/>
            <p:nvPr/>
          </p:nvSpPr>
          <p:spPr>
            <a:xfrm>
              <a:off x="4356000" y="68706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5" name="AutoShape 11"/>
            <p:cNvSpPr/>
            <p:nvPr/>
          </p:nvSpPr>
          <p:spPr>
            <a:xfrm>
              <a:off x="4356000" y="82422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4356000" y="7353360"/>
            <a:ext cx="428760" cy="1635120"/>
            <a:chOff x="4356000" y="7353360"/>
            <a:chExt cx="428760" cy="1635120"/>
          </a:xfrm>
        </p:grpSpPr>
        <p:sp>
          <p:nvSpPr>
            <p:cNvPr id="497" name="AutoShape 13"/>
            <p:cNvSpPr/>
            <p:nvPr/>
          </p:nvSpPr>
          <p:spPr>
            <a:xfrm>
              <a:off x="4356000" y="735336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4356000" y="864864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1C3B5-E968-4086-B468-C3F45E85B52E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 rot="5400000">
            <a:off x="4968720" y="393696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4" name="AutoShape 5"/>
          <p:cNvSpPr/>
          <p:nvPr/>
        </p:nvSpPr>
        <p:spPr>
          <a:xfrm rot="5400000">
            <a:off x="5343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5" name="AutoShape 6"/>
          <p:cNvSpPr/>
          <p:nvPr/>
        </p:nvSpPr>
        <p:spPr>
          <a:xfrm rot="5400000">
            <a:off x="5711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6" name="AutoShape 7"/>
          <p:cNvSpPr/>
          <p:nvPr/>
        </p:nvSpPr>
        <p:spPr>
          <a:xfrm rot="5400000">
            <a:off x="6080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7" name="AutoShape 8"/>
          <p:cNvSpPr/>
          <p:nvPr/>
        </p:nvSpPr>
        <p:spPr>
          <a:xfrm rot="5400000">
            <a:off x="6460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8" name="AutoShape 9"/>
          <p:cNvSpPr/>
          <p:nvPr/>
        </p:nvSpPr>
        <p:spPr>
          <a:xfrm rot="5400000">
            <a:off x="6854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9" name="AutoShape 10"/>
          <p:cNvSpPr/>
          <p:nvPr/>
        </p:nvSpPr>
        <p:spPr>
          <a:xfrm rot="5400000">
            <a:off x="7223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0" name="AutoShape 11"/>
          <p:cNvSpPr/>
          <p:nvPr/>
        </p:nvSpPr>
        <p:spPr>
          <a:xfrm rot="5400000">
            <a:off x="75783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1" name="AutoShape 12"/>
          <p:cNvSpPr/>
          <p:nvPr/>
        </p:nvSpPr>
        <p:spPr>
          <a:xfrm rot="5400000">
            <a:off x="79340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2" name="AutoShape 13"/>
          <p:cNvSpPr/>
          <p:nvPr/>
        </p:nvSpPr>
        <p:spPr>
          <a:xfrm rot="5400000">
            <a:off x="82897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3" name="AutoShape 14"/>
          <p:cNvSpPr/>
          <p:nvPr/>
        </p:nvSpPr>
        <p:spPr>
          <a:xfrm rot="5400000">
            <a:off x="86454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4" name="AutoShape 15"/>
          <p:cNvSpPr/>
          <p:nvPr/>
        </p:nvSpPr>
        <p:spPr>
          <a:xfrm rot="5400000">
            <a:off x="90136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5" name="AutoShape 16"/>
          <p:cNvSpPr/>
          <p:nvPr/>
        </p:nvSpPr>
        <p:spPr>
          <a:xfrm rot="5400000">
            <a:off x="936936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6" name="AutoShape 17"/>
          <p:cNvSpPr/>
          <p:nvPr/>
        </p:nvSpPr>
        <p:spPr>
          <a:xfrm rot="5400000">
            <a:off x="973764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7" name="AutoShape 18"/>
          <p:cNvSpPr/>
          <p:nvPr/>
        </p:nvSpPr>
        <p:spPr>
          <a:xfrm rot="5400000">
            <a:off x="1010592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8" name="AutoShape 19"/>
          <p:cNvSpPr/>
          <p:nvPr/>
        </p:nvSpPr>
        <p:spPr>
          <a:xfrm rot="5400000">
            <a:off x="1047420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9" name="AutoShape 20"/>
          <p:cNvSpPr/>
          <p:nvPr/>
        </p:nvSpPr>
        <p:spPr>
          <a:xfrm rot="5400000">
            <a:off x="10842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0" name="AutoShape 21"/>
          <p:cNvSpPr/>
          <p:nvPr/>
        </p:nvSpPr>
        <p:spPr>
          <a:xfrm rot="5400000">
            <a:off x="1121076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D3D9-96F1-4423-A8CF-64C8D383538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03-11T20:19:34Z</dcterms:modified>
  <cp:revision>5</cp:revision>
  <dc:subject/>
  <dc:title>Elements of the Periodic Table</dc:title>
</cp:coreProperties>
</file>